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3050784"/>
        <c:axId val="62293156"/>
      </c:barChart>
      <c:catAx>
        <c:axId val="2305078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293156"/>
        <c:crosses val="autoZero"/>
        <c:auto val="1"/>
        <c:lblAlgn val="ctr"/>
        <c:lblOffset val="100"/>
        <c:noMultiLvlLbl val="0"/>
      </c:catAx>
      <c:valAx>
        <c:axId val="6229315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05078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1AD9-3D2E-459E-8CDA-1475C6F84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94EC-028D-4F1B-BCC9-C927C1D87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C1BD-119A-411A-A4A6-ECF4F6C8A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DAFC-52CA-4464-B226-6155BB013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9591-3707-42BA-B996-0582DBA63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8A2F-7DE9-4D5C-9E8B-8C9FBAFA2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E0C0-623F-4A46-B8C9-E0384C0D0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2121-A6C0-4FDD-8196-95CE34C99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FA3E-9D26-41B8-B6A7-A537940EC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2620-9ED0-42D4-99AC-755AB387D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8FD1-5D04-4407-A76E-92D7E2702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559C-3A09-491D-925E-C53FBFEF9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E3CCEF-2B03-48DA-892E-71E832B3C6E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