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264"/>
        <c:axId val="23911996"/>
      </c:barChart>
      <c:catAx>
        <c:axId val="228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11996"/>
        <c:crosses val="autoZero"/>
        <c:auto val="1"/>
        <c:lblAlgn val="ctr"/>
        <c:lblOffset val="100"/>
        <c:noMultiLvlLbl val="0"/>
      </c:catAx>
      <c:valAx>
        <c:axId val="23911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974-00A3-451B-B013-3D639232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6B0-B036-4E7B-AE76-E05028B0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5E7-731A-46CB-9A5E-2509E11B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932-2335-40DE-AD6A-A75FC91E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3E4-468A-41F3-917C-416362FA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191-2307-4442-A6AA-3AFBE58A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FCD-AB8A-4B48-B979-3922CB83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37B-B3B5-428E-B87A-A68D9499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873-C1CB-418F-B293-4BAA65A0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AAA-54A6-45DB-A36F-4302839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2F3-A0B2-4044-AD7B-396E6ED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C0A-F8AC-4071-8187-D7E11504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77540-22B2-4AC2-B051-EEEE7D5ED1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