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035989"/>
        <c:axId val="14583995"/>
      </c:barChart>
      <c:catAx>
        <c:axId val="290359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83995"/>
        <c:crosses val="autoZero"/>
        <c:auto val="1"/>
        <c:lblAlgn val="ctr"/>
        <c:lblOffset val="100"/>
        <c:noMultiLvlLbl val="0"/>
      </c:catAx>
      <c:valAx>
        <c:axId val="145839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359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CECE-F490-46CD-8453-94D5B8D85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6349-A5B4-48CB-864C-8621154E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56E5-F965-47F3-8CBA-9071FE125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2BDC-D086-48D5-B5AF-BF9588FE7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B85D-4189-4918-81CE-362809E3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D309-FED5-4C1A-BE49-E269F6F3E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AE8E-CF86-422E-B976-AD232787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D979-AF8C-4824-8FD5-92E435A8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456F-11FF-42C5-8CC4-1745D04F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5B23-C186-4B60-BBF7-343F577C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5D3F-8DDA-426A-B517-74A670E0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950C-B3D6-4223-86C6-9BE173B2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8D9332-EF7B-4702-AC91-2D7AD876E0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