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635405"/>
        <c:axId val="12703440"/>
      </c:barChart>
      <c:catAx>
        <c:axId val="916354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03440"/>
        <c:crosses val="autoZero"/>
        <c:auto val="1"/>
        <c:lblAlgn val="ctr"/>
        <c:lblOffset val="100"/>
        <c:noMultiLvlLbl val="0"/>
      </c:catAx>
      <c:valAx>
        <c:axId val="127034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354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35F-47DE-4DDB-AAAF-B3828A78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021D-EDE0-4E1D-AE98-0118BBEA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77D-E77B-41F3-8A13-FEBFCF03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7FE-2CD8-4380-B0C1-221C9C46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29C-6957-4F46-AD05-635E5A0D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652D-500F-4E3A-9F09-51510DE3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F21E-0147-4B7A-8356-071A788B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63A-5ADE-433A-B71F-9F1B4016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7FC-C810-437E-888C-DE79AACF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4DD7-5353-4B80-8F31-9CD56156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4BF0-0BDD-469C-BAB0-5E0715D3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FFB0-3E8A-418B-94CF-CA7EB27B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56B54-D2A3-4EA1-A922-437ACD8694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