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27352"/>
        <c:axId val="61808020"/>
      </c:barChart>
      <c:catAx>
        <c:axId val="62027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08020"/>
        <c:crosses val="autoZero"/>
        <c:auto val="1"/>
        <c:lblAlgn val="ctr"/>
        <c:lblOffset val="100"/>
        <c:noMultiLvlLbl val="0"/>
      </c:catAx>
      <c:valAx>
        <c:axId val="61808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27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F35-11FE-423E-AE86-73F57B0A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174-80B1-4BD8-8C61-787B5352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9E8-12D6-4EB7-A0E2-BD7AFD95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653-90B8-4CB1-A17F-986E7FA5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543-7D55-4335-B55B-07C3D558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E36-455E-4C97-952B-5973E500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BC4-3079-48D6-B5B7-4A19E38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42A-6B85-4731-A01D-93187424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CBE-9B1B-4C8E-82F5-3BFE79B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1BB-0655-48DD-8091-91A43CB7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FBA-5C7D-4BFF-8BA0-CAF1CCE8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24BE-7A61-4898-88F8-5C6E48D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6BDEE-7809-47E0-8E47-F597A0818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