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42655"/>
        <c:axId val="13385559"/>
      </c:barChart>
      <c:catAx>
        <c:axId val="69342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85559"/>
        <c:crosses val="autoZero"/>
        <c:auto val="1"/>
        <c:lblAlgn val="ctr"/>
        <c:lblOffset val="100"/>
        <c:noMultiLvlLbl val="0"/>
      </c:catAx>
      <c:valAx>
        <c:axId val="13385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42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E19-DDA9-4031-88CE-A761FBDF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1A2-2150-401F-B29A-6ADBA49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35B-51E6-4A43-BAF1-7831DF3F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6BB-9A29-472C-BC0D-111D64F9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7EA-92C0-4738-AFEF-DFB63F6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D30-2226-4AF4-891C-523AD2A6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A01-7AA0-40E5-BDDF-41CECC34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312-2D4D-4619-979C-279393EB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160-0ECD-4B89-81C8-01F7333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CD1-09CE-4B7E-9C05-ADDB6956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2BA-5C95-4222-ABE2-96DF402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08B-FD2A-48C7-8A31-AAB0A25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190AF-B731-420E-9FB9-83A0367E28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