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35170"/>
        <c:axId val="44795644"/>
      </c:barChart>
      <c:catAx>
        <c:axId val="23635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95644"/>
        <c:crosses val="autoZero"/>
        <c:auto val="1"/>
        <c:lblAlgn val="ctr"/>
        <c:lblOffset val="100"/>
        <c:noMultiLvlLbl val="0"/>
      </c:catAx>
      <c:valAx>
        <c:axId val="44795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35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CE0-784F-4208-BE7C-478BD3A7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D5B-C3D9-4097-B718-C26A4A40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4750-F4A2-47CD-A9C1-0AD250C3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220-EA6E-4FCF-B71D-801B4E3C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5EB-9FAB-4C37-9E50-39664FBD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E9F-5C00-4ED6-A863-E573E8A4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367-29CB-45F1-93DA-9859009F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630-93E2-4A5E-A826-A3269C06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473-D2A4-478B-AF37-FFED86DB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56A-2728-40B3-BDFE-730A73F5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2A8-9370-488F-A656-B7342D82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BE2B-C6B3-4CD8-A84A-8BF5943A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F9B6D-D238-43CA-8F7C-3E70D4BFEF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