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64428"/>
        <c:axId val="46242854"/>
      </c:barChart>
      <c:catAx>
        <c:axId val="48664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42854"/>
        <c:crosses val="autoZero"/>
        <c:auto val="1"/>
        <c:lblAlgn val="ctr"/>
        <c:lblOffset val="100"/>
        <c:noMultiLvlLbl val="0"/>
      </c:catAx>
      <c:valAx>
        <c:axId val="46242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64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1EF-BEFA-463A-8F6B-7B617AC9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947-8773-4567-A275-4737D6FE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B33-A7BC-4A5C-8AFA-1150F503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0F6-3AC3-49C1-8D78-F66461B2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48D-480F-4552-A15C-5593CF1C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1C7B-244E-4D1B-94D1-F418BB24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B28-3296-4E22-A694-FEA38825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F11-1F0A-43BC-B890-F34BFD4C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5D3-437D-46F9-B8E8-082C9029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68B-83A3-42DC-9C4E-AAA51BD2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5C81-ADD7-457B-8AA2-CBC7B820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9C01-ADD2-4E78-A4E1-C73AB6E6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48CE6-EB6D-40AC-9F1B-9E51636796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