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12825"/>
        <c:axId val="43667059"/>
      </c:barChart>
      <c:catAx>
        <c:axId val="19912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67059"/>
        <c:crosses val="autoZero"/>
        <c:auto val="1"/>
        <c:lblAlgn val="ctr"/>
        <c:lblOffset val="100"/>
        <c:noMultiLvlLbl val="0"/>
      </c:catAx>
      <c:valAx>
        <c:axId val="43667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12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0CF-DF65-4A2F-8A9A-3CF567B1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AF2-06F0-44C2-B8E6-9DF455FD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14F-AFE9-43E6-BB51-A956BEC5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F86-7D24-487E-9016-62DEE6DF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DDE-B580-4E99-ACAB-326FAF9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C15-82EB-4C1E-AE12-D25A7C80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4C2-89C7-450A-B325-A0BD029A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513-8CAB-44BF-8C39-6C13D515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6E9-ECE1-4FED-9CE3-B7A73EFE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F00-3C01-416B-96A6-F3A4B949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E98-7765-42F6-8699-D3B91B7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4B3-6EDB-4499-9361-CB35B07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117E6-B7BF-43F3-9633-DE4ACB064C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