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443354"/>
        <c:axId val="24978383"/>
      </c:barChart>
      <c:catAx>
        <c:axId val="534433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78383"/>
        <c:crosses val="autoZero"/>
        <c:auto val="1"/>
        <c:lblAlgn val="ctr"/>
        <c:lblOffset val="100"/>
        <c:noMultiLvlLbl val="0"/>
      </c:catAx>
      <c:valAx>
        <c:axId val="249783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433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E095-781D-4610-899E-CB051F35E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0876-2A59-4C94-A453-D7E082F0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D933-DA3B-4F97-BD9C-25DE53A50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367E-D054-4480-A5BA-D5C95DCA1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78EE-403D-498D-832A-C3C38333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1295-367A-4A6F-9F57-65ED9A31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8F2B-3A2D-4A50-B308-B524EF68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2420-D4D3-4923-8B21-CE4D3B83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E73B-8FE7-4288-98ED-063188B8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B6A9-8498-4037-94DB-056222EA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EEA0-BD9D-4B3C-A01B-A2B1B07B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702C-B1B2-4558-ADF4-64E4C51C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14422-0135-4678-9B72-83714E5115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