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8773"/>
        <c:axId val="65398598"/>
      </c:barChart>
      <c:catAx>
        <c:axId val="4278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98598"/>
        <c:crosses val="autoZero"/>
        <c:auto val="1"/>
        <c:lblAlgn val="ctr"/>
        <c:lblOffset val="100"/>
        <c:noMultiLvlLbl val="0"/>
      </c:catAx>
      <c:valAx>
        <c:axId val="65398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8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EA8-1C3B-4DBB-A25D-C9E6B077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AD3-45D2-4F1A-813E-E350F41D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706-E801-4C6C-9671-7BAEB720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15B-A2A7-47CC-B48C-F36EF30A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8EC-2867-40CA-A761-FA5A99DB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F83-AF09-4123-AAB7-CC044B42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B6B-9813-4586-90A5-21A3218B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B84D-358E-4017-9D8C-4868F60B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F11-0935-48D6-B0C2-B2F2CF79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7E8-86EB-4984-BFC1-EE2056C0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DDF9-5F1D-4907-BD74-D0C948BC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DE0-3C17-4063-BEF9-C0F3B8C9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42907-A7E0-41FC-92CB-4798833A34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