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36949"/>
        <c:axId val="80884805"/>
      </c:barChart>
      <c:catAx>
        <c:axId val="41136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84805"/>
        <c:crosses val="autoZero"/>
        <c:auto val="1"/>
        <c:lblAlgn val="ctr"/>
        <c:lblOffset val="100"/>
        <c:noMultiLvlLbl val="0"/>
      </c:catAx>
      <c:valAx>
        <c:axId val="80884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36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404-3816-4ACC-A2E1-1CF8B5DB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25D-00E1-4395-9299-B1E53A81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B6A-9DB6-4CCA-BC34-3328F813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E39-D0D6-4C9D-82BD-F5756007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9A9-8A6B-42B4-B49E-41AB84F1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67A-62A0-47E0-8499-981E25EE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930-BABB-4967-A1C2-B7428C6C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F97-8E4B-4E5D-BE9E-4C8DC9D8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2D5-CB80-4BF1-A13C-08347FEC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ECA-20D0-4E8D-BF0E-A1DD16BB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8F7-A4D7-45FA-AD31-BE97482A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778-DEA6-4151-98FE-20725A96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29A53-567D-49AB-AE01-745F3117B2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