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52176"/>
        <c:axId val="40260347"/>
      </c:barChart>
      <c:catAx>
        <c:axId val="91552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0347"/>
        <c:crosses val="autoZero"/>
        <c:auto val="1"/>
        <c:lblAlgn val="ctr"/>
        <c:lblOffset val="100"/>
        <c:noMultiLvlLbl val="0"/>
      </c:catAx>
      <c:valAx>
        <c:axId val="40260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52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169-C217-4971-BC8C-CBB39A1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8CB-0351-406B-9CE7-27EDDCD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702-3EBE-4B18-8E27-A71A6AB4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62F-FB6E-48F7-94FF-80FCDEA3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5E1-899A-4174-9779-5E4539B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5A4-38DD-4194-9996-CC5289B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E13-57C8-46F5-85C1-051DA40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EAA-4DB1-48F0-889C-28D21036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FD7-603F-4345-A7FF-ADA112D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329-022C-4079-B87C-586BDC7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6FF-EE8C-4C49-A357-1769517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2EB-59C7-4F7B-B3B3-606F39A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58A66-7BBA-4AA6-8EDB-B5C93FDD73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