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34207"/>
        <c:axId val="19363527"/>
      </c:barChart>
      <c:catAx>
        <c:axId val="99334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63527"/>
        <c:crosses val="autoZero"/>
        <c:auto val="1"/>
        <c:lblAlgn val="ctr"/>
        <c:lblOffset val="100"/>
        <c:noMultiLvlLbl val="0"/>
      </c:catAx>
      <c:valAx>
        <c:axId val="19363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34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619-A7CE-44C5-83C5-D3F7329D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BA3-189A-4510-A50F-86A4BF3F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4AC-E002-4CB6-8BF3-77BB00D9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164-FF5A-4255-99D5-D0D4E8CF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5CF-CA12-4DFD-84C1-F57F53B3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5BB-62CF-40B6-B8E2-51D6F5E8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8E3-3837-4741-A0E7-456CAF18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595-C9F2-4BE8-81B7-2658273D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9A4-24B1-44F8-BB56-182CEF60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189-D054-47D6-91AD-22258AA2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4A2-AA7D-4D53-A4C0-DCCF4D18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128-A09B-4461-AABF-EE1AF609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9E343-62C1-4978-AE92-F941CC8FD5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